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gif" ContentType="image/gif"/>
  <Override PartName="/ppt/media/image1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E2DE7-73BC-4C58-81F7-7B77A43854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D4E9E-76D6-44F9-AB78-1240FA01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45E9E-CD0F-4B24-A555-7C0901DAD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75BEC-F585-4067-AAE0-6AD5171FF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D4D81-A8A6-4A52-A2BE-B3588AC884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CF93D-D45B-4240-8ACE-B56ACB60A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8D759-2CF4-4A73-8808-0B903C547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1CC2F-7D9F-4383-808C-4D296A352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E43-7816-4D1F-8DA1-4D5B10D3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47A-CE7D-41E6-8F5B-03FCA71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367-A818-43AE-897E-A306FCDD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AB6-8065-4811-94B7-3F43E226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B83-71DC-46D6-BB1E-46DCBC6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45D-CF7A-4CBA-810F-B956CF9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73D-DE82-49CF-81D3-C68293AD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F48-0DC2-4751-87B9-BE6721E1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395-43F9-42B5-B10E-9E333F7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B51-7FFE-42FA-A64F-02AA139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024-778C-4820-A300-8588518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11D-A7AC-459B-98AD-4F00F4E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705A0-7EAB-4160-ABD3-777A0070862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224C-9324-48AD-BEAD-FE8632CCFB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2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emistry of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A Basic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of the atom is empty space between the nucleus and the electrons of ato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pposing forces of the protons and the electrons hold the atom toge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 pa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Content Placeholder 3" descr="atom.jpg"/>
          <p:cNvPicPr/>
          <p:nvPr/>
        </p:nvPicPr>
        <p:blipFill>
          <a:blip r:embed="rId1"/>
          <a:srcRect l="-6795" t="0" r="-6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= 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itive and negative charges cancel each other making the atom charge zero.  This is for ATOMS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proton and 1 electron then this atom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Numb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# of protons in the nucle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atoms of a particular element have the same number of prot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roton number changes, then the actual element changes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om: smallest unit of an ele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de of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 Protons: + charged partic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nucle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= Neutrons: neutral particl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nucle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 Electrons: - charged partic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ound nucleu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rmally atoms are neutral: p = 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on: a + or - charged ato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 mass of the protons and the neutrons toge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22844469.jpg"/>
          <p:cNvPicPr/>
          <p:nvPr/>
        </p:nvPicPr>
        <p:blipFill>
          <a:blip r:embed="rId1"/>
          <a:stretch/>
        </p:blipFill>
        <p:spPr>
          <a:xfrm>
            <a:off x="1066680" y="3465360"/>
            <a:ext cx="2438640" cy="266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arbontile.jpg"/>
          <p:cNvPicPr/>
          <p:nvPr/>
        </p:nvPicPr>
        <p:blipFill>
          <a:blip r:embed="rId2"/>
          <a:stretch/>
        </p:blipFill>
        <p:spPr>
          <a:xfrm>
            <a:off x="5486400" y="3465360"/>
            <a:ext cx="2292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atoms are unstable (and lonely) and want to bond with ano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tom is only stable when the outer most shell of electrons is fu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shel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orbit or shell can only hold two electr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cond shell can hold 8 electr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shell can hold 18 electrons, but is stable with only 8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shell after that holds more and more electrons, but all act full with 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she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Content Placeholder 3" descr="electshells.gif"/>
          <p:cNvPicPr/>
          <p:nvPr/>
        </p:nvPicPr>
        <p:blipFill>
          <a:blip r:embed="rId1"/>
          <a:srcRect l="-50605" t="0" r="-50605" b="0"/>
          <a:stretch/>
        </p:blipFill>
        <p:spPr>
          <a:xfrm>
            <a:off x="2286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sential Elements of Lif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O  65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bon  C  18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  H  10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ogen  N  3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 Ca  2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Photo: Cave of Crystals, Mexico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sential Elements of Lif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mmon, but still essential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sphorus 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  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lorine  C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 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nesium  M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ce El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pper  C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uorine  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ron   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odine   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inc  Z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lements of Lif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>
            <a:lum contrast="24000"/>
          </a:blip>
          <a:srcRect l="0" t="0" r="4223" b="0"/>
          <a:stretch/>
        </p:blipFill>
        <p:spPr>
          <a:xfrm>
            <a:off x="3962520" y="272880"/>
            <a:ext cx="492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3" descr="carbon atom.jpeg"/>
          <p:cNvPicPr/>
          <p:nvPr/>
        </p:nvPicPr>
        <p:blipFill>
          <a:blip r:embed="rId1"/>
          <a:srcRect l="-25748" t="0" r="-25748" b="0"/>
          <a:stretch/>
        </p:blipFill>
        <p:spPr>
          <a:xfrm>
            <a:off x="-380880" y="1600200"/>
            <a:ext cx="9283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b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Content Placeholder 3" descr="element-carbon.jpg"/>
          <p:cNvPicPr/>
          <p:nvPr/>
        </p:nvPicPr>
        <p:blipFill>
          <a:blip r:embed="rId1"/>
          <a:srcRect l="-39199" t="0" r="-39199" b="0"/>
          <a:stretch/>
        </p:blipFill>
        <p:spPr>
          <a:xfrm>
            <a:off x="457200" y="19051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xyg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Content Placeholder 3" descr="oxygen.jpg"/>
          <p:cNvPicPr/>
          <p:nvPr/>
        </p:nvPicPr>
        <p:blipFill>
          <a:blip r:embed="rId1"/>
          <a:srcRect l="-34977" t="0" r="-3497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Content Placeholder 3" descr="nitrogen.gif"/>
          <p:cNvPicPr/>
          <p:nvPr/>
        </p:nvPicPr>
        <p:blipFill>
          <a:blip r:embed="rId1"/>
          <a:srcRect l="-10795" t="0" r="-10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Content Placeholder 3" descr="calcium.gif"/>
          <p:cNvPicPr/>
          <p:nvPr/>
        </p:nvPicPr>
        <p:blipFill>
          <a:blip r:embed="rId1"/>
          <a:srcRect l="-40251" t="0" r="-402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Content Placeholder 3" descr="hydrogen.jpg"/>
          <p:cNvPicPr/>
          <p:nvPr/>
        </p:nvPicPr>
        <p:blipFill>
          <a:blip r:embed="rId1"/>
          <a:srcRect l="-18185" t="0" r="-181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ble Gas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s with naturally full outer shells, so they are very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ium, neon, argon, and etc that are located on the right side of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ve of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 1000 feet deep in Mex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se are ice cooling sui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ystals are made of Gyps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ly a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s that give and take or share electrons in order to become more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lorine is a non-metal.  If chlorine gains an electron is becomes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is a metal.  If Sodium loses an electron it becomes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bination forms a new substance – table salt.  NaCl  It is more stable than the two elements that formed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bonding_types-nacl.gif"/>
          <p:cNvPicPr/>
          <p:nvPr/>
        </p:nvPicPr>
        <p:blipFill>
          <a:blip r:embed="rId1"/>
          <a:srcRect l="0" t="-5604" r="0" b="-56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firehouse.com/training/hazmat/chemist/2002/1_chemist1.jpg"/>
          <p:cNvPicPr/>
          <p:nvPr/>
        </p:nvPicPr>
        <p:blipFill>
          <a:blip r:embed="rId1"/>
          <a:stretch/>
        </p:blipFill>
        <p:spPr>
          <a:xfrm>
            <a:off x="685800" y="27468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tom that loses an electron becomes a positive 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 that gains an electron becomes a negative 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 loses an electron so it becomes a positive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 gains an electron so it becomes a negative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ositive ion Na is attracted to the negative ion Cl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an ionic bond, because it is the attraction of two ions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valent Bo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ing elec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” means to share and they are sharing the valence.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,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exam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 shares its electron with Oxyg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. 41 in boo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y strong bond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valent Bond in wa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Water molecule diagram"/>
          <p:cNvPicPr/>
          <p:nvPr/>
        </p:nvPicPr>
        <p:blipFill>
          <a:blip r:embed="rId2"/>
          <a:stretch/>
        </p:blipFill>
        <p:spPr>
          <a:xfrm>
            <a:off x="2362320" y="1600200"/>
            <a:ext cx="4572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ou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 made of two or more ele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:  CO,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,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st unit of a compou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tter is anything that occupies space and has mas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at are the three states of matter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a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l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qu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ch state of matter is due to the varying amounts of energy possessed by that matt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lecular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is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Molecular Formu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uctural Formu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3" descr="glucose.jpeg"/>
          <p:cNvPicPr/>
          <p:nvPr/>
        </p:nvPicPr>
        <p:blipFill>
          <a:blip r:embed="rId1"/>
          <a:stretch/>
        </p:blipFill>
        <p:spPr>
          <a:xfrm>
            <a:off x="3124080" y="2971800"/>
            <a:ext cx="3327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vs. Physical Chan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mical Chan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inite propor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w compounds form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ergy i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ical chang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 in 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bination w/ other subst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xture – 2 substances combine w/o chemical bonding.  Sand and water e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ther component to the physical univer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is the ability to do wor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netic is the energy of motion ex. heat, light, move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is stored energy waiting to be kinetic energy.  Battery or an object about to fall off a led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Content Placeholder 3" descr="potencial-and-kinetic.bmp"/>
          <p:cNvPicPr/>
          <p:nvPr/>
        </p:nvPicPr>
        <p:blipFill>
          <a:blip r:embed="rId1"/>
          <a:srcRect l="-17070" t="0" r="-170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 Converted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you see potential energy can be converted or changed into kinetic.  The bike rolling down the hill is that conver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                           Kine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inetic energy is also converted into potential (stored) energy in plants.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                               Pot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ight Arrow 3"/>
          <p:cNvSpPr/>
          <p:nvPr/>
        </p:nvSpPr>
        <p:spPr>
          <a:xfrm>
            <a:off x="1828800" y="5562720"/>
            <a:ext cx="2362320" cy="304560"/>
          </a:xfrm>
          <a:prstGeom prst="rightArrow">
            <a:avLst>
              <a:gd name="adj1" fmla="val 50000"/>
              <a:gd name="adj2" fmla="val 5005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ight Arrow 4"/>
          <p:cNvSpPr/>
          <p:nvPr/>
        </p:nvSpPr>
        <p:spPr>
          <a:xfrm>
            <a:off x="2057400" y="3352680"/>
            <a:ext cx="2362320" cy="30492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rmodynam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w – Energy is neither created nor destroyed.  It can change fo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w -  some energy is unusable.  entro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tic Energy of a 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thermal energy determines how fast its molecules move and thus its physical state.  Gas, liquid or sol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tential Energy of a 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tential energy of a molecule:   stored in its chemical bond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 kinds of chemical rx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) Endothermic rx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quires or absorbs heat energy    A + B + energy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 + 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member what Endo mean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) Exothermic rx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berates heat energy A + B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energy + C + 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member what exo mean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ids and B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dissolved i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id: releases hydrogen ions (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e: releases hydroxyl ions (OH-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an acid &amp; base are put togeth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y neutralize each oth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make a salt &amp;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H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cidity or alkalinity of a sol’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 of hydrogen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&amp; external pH of living thing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important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3" descr="ph"/>
          <p:cNvPicPr/>
          <p:nvPr/>
        </p:nvPicPr>
        <p:blipFill>
          <a:blip r:embed="rId1"/>
          <a:stretch/>
        </p:blipFill>
        <p:spPr>
          <a:xfrm>
            <a:off x="0" y="3011400"/>
            <a:ext cx="899172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9 known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are pure substances that cannot be furher broken down into simpler substa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. keep cutting gold in half over and over again until the piece would no longer be g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H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blood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brain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stomach enzy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acids can harm lu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 acid r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clear lake w/ no normal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deformed fis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diseased pl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uff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ll combine with excess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or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es Survivability in acidic environ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Content Placeholder 3" descr="waterspecies.gif"/>
          <p:cNvPicPr/>
          <p:nvPr/>
        </p:nvPicPr>
        <p:blipFill>
          <a:blip r:embed="rId1"/>
          <a:srcRect l="-9173" t="0" r="-91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228600"/>
            <a:ext cx="86868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diffus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mvt of molec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rom an area of [high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o an area of [low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quilibrium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equal [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Diffusion_animation"/>
          <p:cNvPicPr/>
          <p:nvPr/>
        </p:nvPicPr>
        <p:blipFill>
          <a:blip r:embed="rId1"/>
          <a:stretch/>
        </p:blipFill>
        <p:spPr>
          <a:xfrm>
            <a:off x="4419720" y="182880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diffusion-animated"/>
          <p:cNvPicPr/>
          <p:nvPr/>
        </p:nvPicPr>
        <p:blipFill>
          <a:blip r:embed="rId2"/>
          <a:stretch/>
        </p:blipFill>
        <p:spPr>
          <a:xfrm>
            <a:off x="533520" y="1758960"/>
            <a:ext cx="3429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228600"/>
            <a:ext cx="868680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osmosi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of wa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rough a semipermeable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Diffusion pressur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the pressure for diffusio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to occ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will happen fa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* the greater the difference in [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* As heat incre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400px-Diffusion"/>
          <p:cNvPicPr/>
          <p:nvPr/>
        </p:nvPicPr>
        <p:blipFill>
          <a:blip r:embed="rId1"/>
          <a:stretch/>
        </p:blipFill>
        <p:spPr>
          <a:xfrm>
            <a:off x="2133720" y="4114800"/>
            <a:ext cx="53337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09480" y="457200"/>
            <a:ext cx="8686800" cy="84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osmosi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of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rough a semipermeable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brane is only permeable to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e correct solute (dissolved substa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 the cell is crit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228600"/>
            <a:ext cx="8686800" cy="10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me rxn occur immediat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x: Na + Cl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me rxn need energy to start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ctivation energy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ergy needed to start a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atalys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ffect the rate of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ut are not changed in the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ur body’s catalyst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ergy is released in small usable amou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228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Activation"/>
          <p:cNvPicPr/>
          <p:nvPr/>
        </p:nvPicPr>
        <p:blipFill>
          <a:blip r:embed="rId1"/>
          <a:stretch/>
        </p:blipFill>
        <p:spPr>
          <a:xfrm>
            <a:off x="1447920" y="380880"/>
            <a:ext cx="61149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09480" y="380880"/>
            <a:ext cx="8686800" cy="9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ution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homogeneous mix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x: sugar wa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ut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dissolved substanc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ve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hat the solute is dissolved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ater is the universal solv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uspens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ticles do not dissolv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 liquid mixture that sepa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st unit of an element that still is that element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me comes from Greek to mean indivisible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odic Tabl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rrangement of the elements according to atomic structu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slide shows the periodic table of ele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Content Placeholder 3" descr="periodic_table1.gif"/>
          <p:cNvPicPr/>
          <p:nvPr/>
        </p:nvPicPr>
        <p:blipFill>
          <a:blip r:embed="rId1"/>
          <a:srcRect l="-9602" t="0" r="-9602" b="0"/>
          <a:stretch/>
        </p:blipFill>
        <p:spPr>
          <a:xfrm>
            <a:off x="-838080" y="274680"/>
            <a:ext cx="10807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tom is like the solar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cleus has neutrons (no charge) and the protons (positive charge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(negative charge) constantly circles the nucleus within orbits at varying dista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9:57:06Z</dcterms:created>
  <dc:creator>Jason Cobb</dc:creator>
  <dc:description/>
  <dc:language>en-US</dc:language>
  <cp:lastModifiedBy>jcobb</cp:lastModifiedBy>
  <dcterms:modified xsi:type="dcterms:W3CDTF">2012-09-18T18:50:50Z</dcterms:modified>
  <cp:revision>22</cp:revision>
  <dc:subject/>
  <dc:title>Chapter 2 </dc:title>
</cp:coreProperties>
</file>